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40A-D152-49F5-A8CA-3C75AB62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463-24C7-4C4E-84A4-1A9AC849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F7C-32D6-4855-A736-4C436EAF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6D6-5637-43B9-8E59-59D12949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3FD-1D2C-416E-BDB0-775E28A7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831-7CFE-4681-8EBA-7CDA51A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9FB-55C3-47E5-8C9B-52471B4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1FD-2559-4739-9096-80F6068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7AF-78A2-4C75-93A0-3568A5D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E8F-C4AD-4B8A-9A86-6DB3B72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AB5-84A9-4CC0-AA4A-650BC45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9BC-AC69-4803-AAFE-46EB434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D0A-4D56-4FD7-B367-22F5B26E4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geflak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8-07-23_2049"/>
          <p:cNvPicPr/>
          <p:nvPr/>
        </p:nvPicPr>
        <p:blipFill>
          <a:blip r:embed="rId1"/>
          <a:stretch/>
        </p:blipFill>
        <p:spPr>
          <a:xfrm>
            <a:off x="3124080" y="84240"/>
            <a:ext cx="3800520" cy="6773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4114800" y="1981080"/>
            <a:ext cx="205740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4267080" y="19810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 Log on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008-07-23_2154"/>
          <p:cNvPicPr/>
          <p:nvPr/>
        </p:nvPicPr>
        <p:blipFill>
          <a:blip r:embed="rId1"/>
          <a:stretch/>
        </p:blipFill>
        <p:spPr>
          <a:xfrm>
            <a:off x="762120" y="380880"/>
            <a:ext cx="7488000" cy="336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5029200"/>
            <a:ext cx="8915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10:  To customize your page; click on change theme and choose the theme you like. Don’t forget to s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008-07-23_2155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4920" y="4724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11:  Click on change layout to choose the way your page will look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ow to make a pagecast"/>
          <p:cNvPicPr/>
          <p:nvPr/>
        </p:nvPicPr>
        <p:blipFill>
          <a:blip r:embed="rId1"/>
          <a:stretch/>
        </p:blipFill>
        <p:spPr>
          <a:xfrm>
            <a:off x="380880" y="0"/>
            <a:ext cx="828828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9480" y="571500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ing students to access pages on your page flakes accou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llowing others access to a specific page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the page you want to mak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menu bu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make a page cast bu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“publish page to the world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appropriate bl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it save pages and it will give you a url etc.  Make you sure you save it some where.  You can then put it in on a  Wiki or give it to you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85800" y="762120"/>
            <a:ext cx="765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Erin Stokey for all her help preparing this pres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d by Maggy Lindler and Erin Stokey from Lakeview Academ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thanks to Shelley Paul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odward Acade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introduced me to Pageflakes through her amazing Web 2.0 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MCj04377990000[1]"/>
          <p:cNvPicPr/>
          <p:nvPr/>
        </p:nvPicPr>
        <p:blipFill>
          <a:blip r:embed="rId1"/>
          <a:stretch/>
        </p:blipFill>
        <p:spPr>
          <a:xfrm>
            <a:off x="1523880" y="3429000"/>
            <a:ext cx="6400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008-07-23_2059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47920" y="19810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544760" y="205740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 Go to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pageflakes.c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cl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gn up button or login ( after you cre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ccoun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8-07-23_2057"/>
          <p:cNvPicPr/>
          <p:nvPr/>
        </p:nvPicPr>
        <p:blipFill>
          <a:blip r:embed="rId1"/>
          <a:stretch/>
        </p:blipFill>
        <p:spPr>
          <a:xfrm>
            <a:off x="2286000" y="1238400"/>
            <a:ext cx="462924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279440" y="11268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38080" y="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3:   Create an account by filling the fields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08-07-23_2101"/>
          <p:cNvPicPr/>
          <p:nvPr/>
        </p:nvPicPr>
        <p:blipFill>
          <a:blip r:embed="rId1"/>
          <a:stretch/>
        </p:blipFill>
        <p:spPr>
          <a:xfrm>
            <a:off x="2119320" y="1833480"/>
            <a:ext cx="4905360" cy="3191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31760" y="380880"/>
            <a:ext cx="885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4:  After you create your account – the next time you log in you click login ( as shown in slide 2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ge flakes example"/>
          <p:cNvPicPr/>
          <p:nvPr/>
        </p:nvPicPr>
        <p:blipFill>
          <a:blip r:embed="rId1"/>
          <a:stretch/>
        </p:blipFill>
        <p:spPr>
          <a:xfrm>
            <a:off x="838080" y="380880"/>
            <a:ext cx="7667640" cy="523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09480" y="5638680"/>
            <a:ext cx="81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5:  After login Pageflakes will create a default pag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8-07-23_2152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50292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6:  From your default page you will begin to create your Pageflake. Don’t forget to click on the page tab ( see top of slide 5) to rename your page for nex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8-07-23_2110"/>
          <p:cNvPicPr/>
          <p:nvPr/>
        </p:nvPicPr>
        <p:blipFill>
          <a:blip r:embed="rId1"/>
          <a:stretch/>
        </p:blipFill>
        <p:spPr>
          <a:xfrm>
            <a:off x="990720" y="0"/>
            <a:ext cx="738324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80880" y="5484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7:  Click on the menu button and begin exploring the flakes you want to add to your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8-07-23_2114"/>
          <p:cNvPicPr/>
          <p:nvPr/>
        </p:nvPicPr>
        <p:blipFill>
          <a:blip r:embed="rId1"/>
          <a:stretch/>
        </p:blipFill>
        <p:spPr>
          <a:xfrm>
            <a:off x="380880" y="457200"/>
            <a:ext cx="8326440" cy="4438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" y="5141880"/>
            <a:ext cx="80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8:  You can click on any flakes you see or browse all flakes that are available for you to insert to your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008-07-23_2116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28600" y="54864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9:  This is the screen you get after you click the browse button.  When you find one you want click “add to my pag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15:04:13Z</dcterms:created>
  <dc:creator>margaret.lindler</dc:creator>
  <dc:description/>
  <dc:language>en-US</dc:language>
  <cp:lastModifiedBy>Connie White</cp:lastModifiedBy>
  <dcterms:modified xsi:type="dcterms:W3CDTF">2008-07-29T19:25:35Z</dcterms:modified>
  <cp:revision>5</cp:revision>
  <dc:subject/>
  <dc:title>Slide 1</dc:title>
</cp:coreProperties>
</file>